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F74-7B98-4561-B8BD-DF8B02CA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BE7-0E66-4EF1-B5A8-8C58E4C3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9F2-D291-4FF9-9CB2-8A29F0DE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EF7-9483-4245-B528-9A0096C0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86F-4413-4BE0-B96D-0FA595E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C76-5D85-4743-9425-062BCC00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80A-666A-40A4-B829-B5A95E3B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BB5-1354-4DC5-BC55-D2ECE0D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99F-9844-4882-A0C8-09A34DF5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B88-EC3A-4EA7-ACE5-606CD22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F1-39FE-4572-88A0-A664DA5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066-8A39-4A90-893F-1A388AF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6A64-8A76-4B9F-A73E-1E52B7C20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es.wikipedia.org/wiki/Total_Recall" TargetMode="External"/><Relationship Id="rId5" Type="http://schemas.openxmlformats.org/officeDocument/2006/relationships/hyperlink" Target="http://es.wikipedia.org/wiki/Total_Recall" TargetMode="External"/><Relationship Id="rId6" Type="http://schemas.openxmlformats.org/officeDocument/2006/relationships/hyperlink" Target="http://es.wikipedia.org/wiki/Total_Recall" TargetMode="External"/><Relationship Id="rId7" Type="http://schemas.openxmlformats.org/officeDocument/2006/relationships/hyperlink" Target="http://es.wikipedia.org/wiki/Total_Recall" TargetMode="External"/><Relationship Id="rId8" Type="http://schemas.openxmlformats.org/officeDocument/2006/relationships/hyperlink" Target="http://es.wikipedia.org/wiki/Total_Recall" TargetMode="External"/><Relationship Id="rId9" Type="http://schemas.openxmlformats.org/officeDocument/2006/relationships/hyperlink" Target="http://es.wikipedia.org/wiki/Total_Recall" TargetMode="External"/><Relationship Id="rId10" Type="http://schemas.openxmlformats.org/officeDocument/2006/relationships/hyperlink" Target="http://es.wikipedia.org/wiki/Total_Recall" TargetMode="External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700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EDIPO REY"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 SÓFOCLES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42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Edipo manda a Creonte a consultar el oráculo para averiguar el origen de la peste de Teb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3041640" cy="5185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70036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ste de T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5573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otiv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2492280"/>
            <a:ext cx="36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Dicha peste desaparecera si se venga la muerte de Layo. Se inicia una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Creonte señala que el testigo del crimen no se encuentra en la ciudad y que los tebanos habían sufrido muchos males a causa de la esfi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63700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2714760" cy="36198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211640" y="486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f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557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242100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Tiresias, el adivino, </a:t>
            </a: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dice que Edipo está directamente implicado en el asesinato ya que </a:t>
            </a: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afirma que éstos no son sus padres reales, sino que lo acogieron en adop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6ff"/>
                </a:solidFill>
                <a:latin typeface="Arial"/>
              </a:rPr>
              <a:t>Edipo lo interpreta que como una conspiración del anciano y de Creonte.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3924360" cy="511164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20364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ires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5573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dicios de estar imp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205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Edipo y Yocasta después de narrar sus historias, escuchan al mensajero y se dan cuenta de que Tiresias estaba en lo cie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3414600" cy="48960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564000" y="494172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c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2349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Al darse cuenta de que verdaderamente es él el asesino de Layo, para que nadie reciba el deshonor de su mirada, se arranca los 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2989440" cy="316836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51280" y="45086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d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7002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esultad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dipo Rey” como referente cinematográfico trae películas al cine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2160720" cy="355752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64000" y="2205000"/>
            <a:ext cx="2087640" cy="3529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160720" cy="35290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84360" y="6165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94216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.wikipedia.org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otal_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48000" y="5877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na Ibáñez Aguilar   2 Bat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9:50:55Z</dcterms:created>
  <dc:creator>Ana</dc:creator>
  <dc:description/>
  <dc:language>en-US</dc:language>
  <cp:lastModifiedBy>Ana</cp:lastModifiedBy>
  <dcterms:modified xsi:type="dcterms:W3CDTF">2010-05-17T13:47:24Z</dcterms:modified>
  <cp:revision>7</cp:revision>
  <dc:subject/>
  <dc:title>Diapositiva 1</dc:title>
</cp:coreProperties>
</file>